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668-B6B4-4298-942B-3B8246AE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3C1-624F-421C-965D-72290236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DDD1C-8BF0-40E5-8B05-4A084055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A1186-DB02-4918-B223-EF94F06C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7D44D-9DC0-4086-8DCC-3DA842FF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D0D79-AA68-4BC7-8A04-EFF9FA48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BCB7E-7576-48A8-ADBB-D0471506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20DDC-BD3F-40EF-B880-7DC59D5B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EE52C-3376-47A6-B7DA-B3A5F5F4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93EED-C51D-4451-AAFB-B89414D0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6AF2F-E2DE-4D0C-B337-58B5756F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35F90-81C1-48DF-9E03-B4CC6936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428-4130-4AA1-9B41-49408C1B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B2B7C-5614-4FC5-8171-42D642C9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A032F-27B3-4726-BF0E-BC005BE0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939D6-F83B-4618-A2B2-25E7DC4F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F0E33-EF18-4A46-B78F-0751AC70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441AD-1338-4152-91AF-FCA563C2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641AD-10E1-4D29-A6FA-4E0647F2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F87A6-346F-4A69-8C3E-10D9A31B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836C0-488B-4D1D-B0E4-C9BD9A5A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8F5BE-BDBC-4DEB-A828-2A2D557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70997-6296-406E-A7D9-CF1CD603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673-A0B5-4C08-9DAD-E7883268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F6229-2E25-41A6-A478-BB991937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FD91-C9D9-45BF-AEEB-6B696F7C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4C48-AA94-4E8C-AFDA-2E3BBE74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A229-4558-4A07-ABA6-4244207C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3A55-359E-4D41-827A-8F0FA4F3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6C5B-64D8-4FEF-B5D6-FC6A8D5F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612E-455E-4A16-95CA-ED4CF666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E5FF-3875-4FC2-85F5-F931571E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468-8A85-421E-9A27-F0FBECB1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B1E0-86A0-45F5-8883-2302F422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2A49-DC26-41D4-8DBC-CEAD693D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F686-FF3A-4FBD-8E9B-8CCC09FC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9ED2-BE0C-424E-9BF5-A941423F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B1FF-21E8-4170-871D-0F3AA29C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A052-F0F3-400D-95AB-19D64F11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FB6A5-8EAD-4884-833F-D6345146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F7B9D-647D-4592-A2D6-985489B6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E0E7-1CED-4967-9791-A32D5054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3BE56-10D4-49BE-8C95-375BB76C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8AF-1CBC-456C-8C33-35839F07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F6BA6-99A8-40CC-9B5D-B4EB4C89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4D5D-9750-4180-923D-EB9F018C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E794-F889-46FA-8D39-3DAF2F71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6B5BB-030A-4E34-9E3F-E731ED4A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6BA7F-1C30-4329-97F6-88E21D2E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8779B-94DC-4DF2-9E63-42EDE833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00566-297E-4C22-8371-1DA4A636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8E042-C1D9-4F2D-AC90-6DA28BD0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BEA37-BA7D-415B-B407-66A78846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268FD-74B9-4782-AE2A-41D55FE4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7CD8-E21B-4B76-9B3C-B36F2930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544DE-B031-45C9-B491-B7DDE837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5B248-6EA5-4E68-93C4-2817F390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B4677-9215-4629-8F5A-07797BBA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A4339-5D56-4FC7-A38B-960B0690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6571D-351B-431A-AC79-B442B038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2DAD3-7610-4C26-AF48-215004F5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C6DD2-4833-4FD8-AC9E-11C265BC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14093-235A-4FA5-9851-7731BD6E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E8E6A-FB50-48BC-A86B-4D6BE433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0EA7D-9969-4BA0-BF04-EAE7BDF2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34B-5935-4E38-BBEF-B3841352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2B530-C432-412F-82B7-B86A0DD7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D13A1-925F-4067-AD2A-BB17CD82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AE3C7-6B3F-4A55-877F-71D51877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1BA30-46F7-4C8C-9F07-135673CC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EDCB9-EC12-4371-BE0B-AD2E3B8F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AFDA4-606C-4221-A468-D19210A7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B931B-CA0B-47F8-B566-7680B44F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97CF4-C742-4B94-BA75-0DBD4D0B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57EAA-284E-4F0A-8F08-27FCE748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CF5F9-E6E5-47C5-9476-D69EFD99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092-B53F-4028-90CE-8F200C92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A2B91-6DFA-4144-A5B7-4B7FA953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0F396-9B51-427D-85D3-CA77FA9E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065E6-8F5B-4321-944E-D22DCFED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0BAB41-FDFD-46B6-B145-AA83AAB5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E7EC4-B083-40BB-BDA4-4A5B76C8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65F308-6F25-4EDE-9CFA-6844616C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81B69D-B5ED-4B97-8768-BB4DECA2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C07EB0-E4E9-459A-A996-7FA97A8F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C27D2A-7978-43E1-9CBA-4D8D1681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5FD1A4-B378-4A85-BEA9-C048DDB3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8D0-CD67-4FFF-95C5-61FA26F3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8E1474-57F9-4953-87AA-1025DE9A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D4188C-1500-4F63-A435-936BFA29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C6B97-CDD8-4F8D-AE7E-57C923C2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F32E0-567E-4F6F-B03E-3F24B515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3957B-56D3-4C01-BF22-B3B44241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5995B-ED05-45CF-A437-27F978FD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887DC-6075-44D6-942F-EB35689B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1FD54-0D23-4E75-BEAA-321A1D69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3AD1E-9496-4C65-90A4-992A6C16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A12F4-4769-4DB0-B44E-8D92A4D9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913-88F2-4685-8D25-660AB11A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C959C-5E8F-44D7-A3EA-0F27D378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1E955-2FEC-47A4-A2D8-3E2F2313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9CDEF-F6BB-4AE3-B2FC-DCACEFF6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B2BDD-27D9-4243-AC64-CB456E37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FB627-9B76-4402-B437-92EC50EA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E8D5D-329D-4AAD-A752-081D5626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C03A2-3DFA-4009-82E5-39A074CA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5295D-89B4-4DFD-AF75-4E7A5B67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75D76-C136-4E47-AB28-B2DC7B36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2A545-6EFC-4EA5-98B8-8B9242B2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7E5-6D2E-42B6-ACC7-8917B135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2316E-D2DE-4706-8656-309BE2DC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FA3A7-8A47-4079-B150-C59B2FCE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BA58F-E79C-4BA6-8C5D-0DD4A4BC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47F81-4C7D-4B29-9FC4-20977149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AEE9E-261E-447F-9A96-DEF3C715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61057-A424-4295-A75C-FC1A130E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FBE68-7355-4DCC-824D-96F7B76C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5CBBF-72AD-4FB2-9F69-6DE61782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01236-6194-487B-85DD-14681C0A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65E57-796C-4EB7-A284-52CF8839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D20C-A0D7-46CA-8162-E55E01E2D94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C36C-60B4-4FBB-8730-939D2C7CD5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D003-0504-48A6-A495-5C7D0AA94DC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67C6-B121-464C-8CB4-8F48B99F81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0B81-447E-498C-BE56-5B8E761131A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0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CC6C-0B4F-4DAD-9546-0695C03859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67C0-7885-43E9-ABDE-94CB50B66C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70BE-178B-4063-AC09-856F603AE80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8F4B-697A-4F81-954A-243A0BB5DA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2EC0-E276-4B8D-97C7-0DD981D6A16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0"/>
          <p:cNvSpPr/>
          <p:nvPr/>
        </p:nvSpPr>
        <p:spPr>
          <a:xfrm>
            <a:off x="539640" y="83664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газа и пара при расшир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гатель внутреннего сгор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5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3889080" cy="38638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2"/>
          <p:cNvSpPr/>
          <p:nvPr/>
        </p:nvSpPr>
        <p:spPr>
          <a:xfrm>
            <a:off x="2124000" y="50846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автомобиль Г.Форда (189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4BE8640"/>
          <p:cNvPicPr/>
          <p:nvPr/>
        </p:nvPicPr>
        <p:blipFill>
          <a:blip r:embed="rId1"/>
          <a:stretch/>
        </p:blipFill>
        <p:spPr>
          <a:xfrm>
            <a:off x="4645080" y="2289240"/>
            <a:ext cx="38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русский автомобиль с двигателем внутреннего сгорания постро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 А. Яковлев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 А. Фрезе (1896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012-1"/>
          <p:cNvPicPr/>
          <p:nvPr/>
        </p:nvPicPr>
        <p:blipFill>
          <a:blip r:embed="rId1"/>
          <a:stretch/>
        </p:blipFill>
        <p:spPr>
          <a:xfrm>
            <a:off x="4645080" y="2451240"/>
            <a:ext cx="38894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вые электромоб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009-1"/>
          <p:cNvPicPr/>
          <p:nvPr/>
        </p:nvPicPr>
        <p:blipFill>
          <a:blip r:embed="rId1"/>
          <a:stretch/>
        </p:blipFill>
        <p:spPr>
          <a:xfrm>
            <a:off x="4645080" y="2604960"/>
            <a:ext cx="388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7" descr="010-1"/>
          <p:cNvPicPr/>
          <p:nvPr/>
        </p:nvPicPr>
        <p:blipFill>
          <a:blip r:embed="rId1"/>
          <a:stretch/>
        </p:blipFill>
        <p:spPr>
          <a:xfrm>
            <a:off x="4645080" y="2327400"/>
            <a:ext cx="38894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 «Дукс» (1901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011-1"/>
          <p:cNvPicPr/>
          <p:nvPr/>
        </p:nvPicPr>
        <p:blipFill>
          <a:blip r:embed="rId1"/>
          <a:stretch/>
        </p:blipFill>
        <p:spPr>
          <a:xfrm>
            <a:off x="4645080" y="248112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05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уссо – Балт» (1908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34BE8640"/>
          <p:cNvPicPr/>
          <p:nvPr/>
        </p:nvPicPr>
        <p:blipFill>
          <a:blip r:embed="rId1"/>
          <a:stretch/>
        </p:blipFill>
        <p:spPr>
          <a:xfrm>
            <a:off x="3059280" y="2708280"/>
            <a:ext cx="54734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755640" y="1628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машнее задание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21-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755640" y="2352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1332000" y="3645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ловые двигат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машины, в которых внутренняя энергия топлива превращается в механическую энерг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403280" y="1052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ся с устройством тепловых машин на примере двигателя внутреннего сгор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02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тель внутреннего сгор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чень распространенный вид теплового двигателя. Топливо в нем сгорает прямо в цилиндре, внутри самого двигателя. Отсюда и происходит название этого 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илиндре такого двигателя периодически происходит сгорание горючей смеси, состоящей из паров бензина и воздуха. Температура газообразных продуктов сгорания достигает 1600 – 180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на поршень при этом резко возрастает. Расширяясь, газы толкают поршень, а вместе с ним и коленчатый вал, совершая при этом механическ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ние положения поршня в цилиндре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ртвыми точ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сстояние, проходимое поршнем от одной мертвой точки до другой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ом порш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рабочий цикл в двигателе происходит за четыре хода поршня, или, как говорят, з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 так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пуск, сжатие, рабочий ход, вы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Поэтому такие двигатели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хтакт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Устройство двигателя 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     внутреннего         сгора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2 – клапан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порш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– ша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– коленчатый 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– мах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- св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154A03EC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повороте вала двигателя в начале первого такта поршень движется вниз. Объем над поршнем увеличивается. Вследствие этого в цилиндре создается разрежение. В это время открывается клапан 1 и в цилиндр входит горючая смесь. К концу первого такта цилиндр заполняется горючей смесью, а клапан 1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3" name="Picture 7" descr="B6FECCDA"/>
          <p:cNvPicPr/>
          <p:nvPr/>
        </p:nvPicPr>
        <p:blipFill>
          <a:blip r:embed="rId1"/>
          <a:stretch/>
        </p:blipFill>
        <p:spPr>
          <a:xfrm>
            <a:off x="4859280" y="1557360"/>
            <a:ext cx="38275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дальнейшем повороте вала поршень движется вверх (второй такт) и сжимает горючую смесь. В конце второго такта, когда поршень дойдет до крайнего верхнего положения, сжатая горючая смесь воспламеняется (от электрической искры) и быстро сгорает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6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78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разующиеся при сгорании газы давят на поршень и толкают его вниз. Под действием расширяющихся нагретых газов (третий такт) двигатель совершает работу, поэтому этот такт называют рабочим ходом. Движение поршня передается шатуну, а через него коленчатому валу с маховиком. Получив сильный толчок, маховик затем продолжает вращаться по инерции и перемещает скрепленный с ним поршень при последующих тактах. Второй и третий такты происходят при закрытых клапана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9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конце третьего такта открывается клапан 2, и через него продукты сгорания выходят из цилиндра в атмосферу. Выпуск продуктов сгорания продолжается и в течение четвертого такта, когда поршень движется вверх. В конце четвертого такта клапан 2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2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7:46:03Z</dcterms:created>
  <dc:creator>Сергей</dc:creator>
  <dc:description/>
  <dc:language>en-US</dc:language>
  <cp:lastModifiedBy>Олег</cp:lastModifiedBy>
  <dcterms:modified xsi:type="dcterms:W3CDTF">2012-02-21T17:16:54Z</dcterms:modified>
  <cp:revision>22</cp:revision>
  <dc:subject/>
  <dc:title>Физика в профессии водителя</dc:title>
</cp:coreProperties>
</file>